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DAE-5B81-4EA4-9013-D9434C99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913-8F25-447F-B8CB-4929E60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6D1-D543-43BE-AC5B-33A1C689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1F2-D023-47AA-823E-03BE9B72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4BEC-5178-4796-9921-DE691CE0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1C5-B4EF-47D8-AB4D-791CF80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BE7-1AAC-42EC-BEB2-8049C843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3F60-8556-4377-B8EF-54D76760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D23A-D5CE-4654-A833-AAD55D46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C65-B5F4-4C77-AC9B-65FBB84E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9F33-C6BB-42E4-8F6D-BC5D754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335-D341-4A2E-93BD-A2C72C3D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522-4B53-48BF-A00F-35E33F2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B701-1341-4267-96B0-824905B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D6B0-8675-4198-9CD5-2212366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D1FD-1CD3-47C9-A90B-98C53A6B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3739-16C6-40B4-9D65-B75B0233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20F-8D35-4E42-85F0-D69EB5C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9E7-8E7B-4027-A198-3E9EC471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2E6-D83C-440C-8DDA-47D2EA4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5F2-CA90-4583-AA95-C79FB55B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CF6-D4C5-45B5-BB95-82C30AE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865-457A-4E9A-AE9D-9DD6A02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646-AA23-4A56-AD30-FFFFD32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45F-8FAC-4569-9A01-B706F33C2E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3D2-44D6-47A5-B298-4B4C87F19C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volved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81080"/>
            <a:ext cx="369756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to be centered around a particular 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rot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s: st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 Break: re.v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 revol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0960" y="4113360"/>
            <a:ext cx="2562120" cy="198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978080" y="2255400"/>
            <a:ext cx="349236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00680" y="1981080"/>
            <a:ext cx="19209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dedi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: making holy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onyms: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onyms: give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llable Break: re.ded.i.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Word: dedic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ection: 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50120" y="1981080"/>
            <a:ext cx="17938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sundersta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09160" y="2331720"/>
            <a:ext cx="3891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A failure to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conf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underst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Break: mis.un.der.stand.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 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057400" cy="2022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331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appointed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tion: feeling like thing did not go the way you had h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nyms: sad or up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onyms: hap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le: dis.ap.point.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Word: appo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: 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92840" y="2027160"/>
            <a:ext cx="173844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113360"/>
            <a:ext cx="148248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roublesom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: causing trou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onyms: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onyms: no b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llable Break: troub.le.s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Wor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e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700680" y="1981080"/>
          <a:ext cx="123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0680" y="1981080"/>
                    <a:ext cx="123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16200" cy="183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34320" y="4038480"/>
            <a:ext cx="18302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1-16T17:57:02Z</dcterms:modified>
  <cp:revision>6</cp:revision>
  <dc:subject/>
  <dc:title>PowerPoint Presentation</dc:title>
</cp:coreProperties>
</file>